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DEB-CB8D-4EF3-A9F1-AD3DCBF9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16E-8306-4538-92B3-3D3E9129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419-E2CC-44FC-B3CC-9CD971B8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699-11B3-4676-947D-742BAA13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0EB0-1465-465B-ACD7-417A8B58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A298-A630-4F90-95A6-61095A1C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A1C4-D7F3-43D6-9968-3CDF3714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A69B-61E1-4E7B-933A-0BC84973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6F8D-C19A-4F11-8316-033DDA99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921A-C5F5-40F8-A2E7-A6B4DCF9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381F-9D98-4FA6-92D3-E44C49F7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1BF-8648-4A13-8710-5E573B5D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7FA9-E69F-4505-9D4D-984CDD2E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A652-2270-448B-9872-F296D871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31DD-FED9-450B-B7CB-ACDC9D49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4BD1-D5EB-4211-BFDF-1778BE07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3218-0775-4709-BE8D-25ABBE5B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690-1F9D-4B2F-BD72-103B1F40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9EF-95EC-4D3A-8280-F7CEE0B5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580-0065-4DE4-9A71-DD1AE4AA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A3B-2504-4E55-8691-3E9AFF8F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A3C-0007-4BE3-91E8-E93F77A2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9A2-6DC9-49F1-8928-3CC72C76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B33-6E4F-49FD-8028-915748C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9AFC-7A88-40FE-BE13-4AF569478593}" type="slidenum"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466B-15BE-4977-A3AE-052A385BF10A}" type="slidenum"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iki/Mediu_activ,_laser" TargetMode="External"/><Relationship Id="rId2" Type="http://schemas.openxmlformats.org/officeDocument/2006/relationships/hyperlink" Target="http://ro.wikipedia.org/wiki/Solid" TargetMode="External"/><Relationship Id="rId3" Type="http://schemas.openxmlformats.org/officeDocument/2006/relationships/hyperlink" Target="http://ro.wikipedia.org/wiki/Lichid" TargetMode="External"/><Relationship Id="rId4" Type="http://schemas.openxmlformats.org/officeDocument/2006/relationships/hyperlink" Target="http://ro.wikipedia.org/wiki/Gaz" TargetMode="External"/><Relationship Id="rId5" Type="http://schemas.openxmlformats.org/officeDocument/2006/relationships/hyperlink" Target="http://ro.wikipedia.org/w/index.php?title=Cavitate_optic&#259;&amp;action=edit&amp;redlink=1" TargetMode="External"/><Relationship Id="rId6" Type="http://schemas.openxmlformats.org/officeDocument/2006/relationships/hyperlink" Target="http://ro.wikipedia.org/wiki/Electron" TargetMode="External"/><Relationship Id="rId7" Type="http://schemas.openxmlformats.org/officeDocument/2006/relationships/hyperlink" Target="http://ro.wikipedia.org/wiki/Ato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7240" y="2039760"/>
            <a:ext cx="7220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f193"/>
                </a:solidFill>
                <a:latin typeface="Book Antiqua"/>
              </a:rPr>
              <a:t>EFECTUL LAS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ounded Rectangle 2"/>
          <p:cNvSpPr/>
          <p:nvPr/>
        </p:nvSpPr>
        <p:spPr>
          <a:xfrm>
            <a:off x="395280" y="404640"/>
            <a:ext cx="4738680" cy="164340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ff193"/>
                </a:solidFill>
                <a:latin typeface="Book Antiqua"/>
              </a:rPr>
              <a:t>Efectul </a:t>
            </a:r>
            <a:r>
              <a:rPr b="1" lang="ro-RO" sz="5000" spc="-1" strike="noStrike">
                <a:solidFill>
                  <a:srgbClr val="eff193"/>
                </a:solidFill>
                <a:latin typeface="Arial"/>
              </a:rPr>
              <a:t>LASER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2" name="Rounded Rectangle 2"/>
          <p:cNvSpPr/>
          <p:nvPr/>
        </p:nvSpPr>
        <p:spPr>
          <a:xfrm>
            <a:off x="152280" y="2209680"/>
            <a:ext cx="8839440" cy="441972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serul este un dispozitiv optic care generează un fascicul coerent de lumină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Fasciculele laser au mai multe proprietăţi care le diferenţiază de lumina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incoerent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produs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e exemplu de Soare sau de becul cu incandescenţă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monocromatic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un spectru în general foarte îngust de lungimi de undă;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irecţional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proprietatea de a se propaga pe distanţe mari cu o divergenţă foarte mică şi, ca urmare, capacitatea de a fi focalizate pe o arie foarte mică;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intens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unii laseri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su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nt suficient de puternici pentru a fi folosiţi la tăierea metalelor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- coerenţa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- strălucire mar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 origine termenul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este acronimul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format în limba englez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e la denumirea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ight amplification by stimulated emission of radiation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(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amplificare a luminii prin stimularea emisiunii radiaţie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), denumire construită pe modelul termenului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m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care înseamnă un dispozitiv similar, funcţionând în domeniul microundelor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17600" y="304560"/>
            <a:ext cx="78264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Principiul functionarii laserului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Rounded Rectangle 2"/>
          <p:cNvSpPr/>
          <p:nvPr/>
        </p:nvSpPr>
        <p:spPr>
          <a:xfrm>
            <a:off x="1042920" y="1413000"/>
            <a:ext cx="3733920" cy="464796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4647960"/>
              <a:gd name="textAreaBottom" fmla="*/ 4465800 h 4647960"/>
            </a:gdLst>
            <a:ahLst/>
            <a:rect l="textAreaLeft" t="textAreaTop" r="textAreaRight" b="textAreaBottom"/>
            <a:pathLst>
              <a:path w="21600" h="26887">
                <a:moveTo>
                  <a:pt x="3600" y="0"/>
                </a:moveTo>
                <a:arcTo wR="3600" hR="3600" stAng="16200000" swAng="-5400000"/>
                <a:lnTo>
                  <a:pt x="0" y="23287"/>
                </a:lnTo>
                <a:arcTo wR="3600" hR="3600" stAng="10800000" swAng="-5400000"/>
                <a:lnTo>
                  <a:pt x="18000" y="26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serul este un dispozitiv complex ce utilizează u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1"/>
              </a:rPr>
              <a:t>mediu activ 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ce poate fi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2"/>
              </a:rPr>
              <a:t>solid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3"/>
              </a:rPr>
              <a:t>lichid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sau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4"/>
              </a:rPr>
              <a:t>gazos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şi o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5"/>
              </a:rPr>
              <a:t>cavitate optică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rezonantă. Mediul activ, cu o compoziţie şi parametri determinaţi, primeşte energie din exterior prin ceea ce se numeşte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pompare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. Pomparea se poate realiza electric sau optic, folosind o sursă de lumină (flash, alt laser etc.) şi duce la excitarea atomilor din mediul activ, adică aducerea unora di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6"/>
              </a:rPr>
              <a:t>electroni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di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7"/>
              </a:rPr>
              <a:t>atomi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mediului pe niveluri de energie superioare.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5" name="Rounded Rectangle 2"/>
          <p:cNvSpPr/>
          <p:nvPr/>
        </p:nvSpPr>
        <p:spPr>
          <a:xfrm>
            <a:off x="5508720" y="4365720"/>
            <a:ext cx="3200400" cy="182880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Faţă de un mediu aflat în echilibru termic, acest mediu pompat ajunge să aibă mai mulţi electroni pe stările de energie superioare, fenomen numit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inversie de populaţie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ounded Rectangle 2"/>
          <p:cNvSpPr/>
          <p:nvPr/>
        </p:nvSpPr>
        <p:spPr>
          <a:xfrm>
            <a:off x="395280" y="692280"/>
            <a:ext cx="5929200" cy="164304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f193"/>
                </a:solidFill>
                <a:latin typeface="Book Antiqua"/>
              </a:rPr>
              <a:t>Caracteristicile fasciculului laser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Rounded Rectangle 2"/>
          <p:cNvSpPr/>
          <p:nvPr/>
        </p:nvSpPr>
        <p:spPr>
          <a:xfrm>
            <a:off x="684360" y="3573360"/>
            <a:ext cx="6933960" cy="259092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Intensit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Monocromaticit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Directionalit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5:15:15Z</dcterms:created>
  <dc:creator>Andreea</dc:creator>
  <dc:description/>
  <dc:language>en-US</dc:language>
  <cp:lastModifiedBy>AS</cp:lastModifiedBy>
  <dcterms:modified xsi:type="dcterms:W3CDTF">2010-01-07T18:32:04Z</dcterms:modified>
  <cp:revision>35</cp:revision>
  <dc:subject/>
  <dc:title>Puterea Brandului Internaţional. </dc:title>
</cp:coreProperties>
</file>